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8D0-7B02-4D90-90BB-511BBC6B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624-6574-447F-B294-3EA6C73A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FA8-E729-4CA0-8A1D-3777F376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AC3-6973-4827-AC76-49A887FD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270-8244-445E-A334-7474C56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9FA-E02D-428A-BE87-5A7F46B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300-8A46-4AAE-B3B6-E02E68D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D8F-E617-467D-8E5D-86881836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0AD-D64C-4B4C-9F17-CF3FE01E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AD5-4F51-4305-929C-3689FC6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E25-9545-4755-86D8-6C05E94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2C2-4599-4A7E-8947-6B8193A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3117-BB09-4A0F-8A12-5A36C3D15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ffff"/>
                </a:solidFill>
                <a:latin typeface="Windsor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5228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nippet Script SSi"/>
              </a:rPr>
              <a:t>Nephil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22860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En ces temps là, quand les hommes se multipliai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après qu’Adam eût quitté le Paradis, les Nephili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marchaient sur la Terr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	</a:t>
            </a: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Bible, genèse 6: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914400"/>
          <a:ext cx="6324480" cy="868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632448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ASSERLAPORTE" descr=""/>
          <p:cNvPicPr/>
          <p:nvPr/>
        </p:nvPicPr>
        <p:blipFill>
          <a:blip r:embed="rId3"/>
          <a:stretch/>
        </p:blipFill>
        <p:spPr>
          <a:xfrm>
            <a:off x="5638680" y="152280"/>
            <a:ext cx="914400" cy="703440"/>
          </a:xfrm>
          <a:prstGeom prst="rect">
            <a:avLst/>
          </a:prstGeom>
          <a:ln w="0">
            <a:noFill/>
          </a:ln>
        </p:spPr>
      </p:pic>
      <p:pic>
        <p:nvPicPr>
          <p:cNvPr id="48" name="PUCEPENTACLEBLEU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entacle" descr=""/>
          <p:cNvPicPr/>
          <p:nvPr/>
        </p:nvPicPr>
        <p:blipFill>
          <a:blip r:embed="rId5"/>
          <a:stretch/>
        </p:blipFill>
        <p:spPr>
          <a:xfrm>
            <a:off x="1143000" y="3124080"/>
            <a:ext cx="3914640" cy="3567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0875000">
            <a:off x="3037680" y="6476760"/>
            <a:ext cx="390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009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nippet Script SSi"/>
              </a:rPr>
              <a:t>Lun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nippet Script SSi"/>
              <a:ea typeface="Snippet Script SSi"/>
            </a:endParaRPr>
          </a:p>
        </p:txBody>
      </p:sp>
      <p:sp>
        <p:nvSpPr>
          <p:cNvPr id="51" name=""/>
          <p:cNvSpPr txBox="1"/>
          <p:nvPr/>
        </p:nvSpPr>
        <p:spPr>
          <a:xfrm rot="18735600">
            <a:off x="2014200" y="3776400"/>
            <a:ext cx="390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6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nippet Script SSi"/>
              </a:rPr>
              <a:t>Feu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nippet Script SSi"/>
              <a:ea typeface="Snippet Script SSi"/>
            </a:endParaRPr>
          </a:p>
        </p:txBody>
      </p:sp>
      <p:sp>
        <p:nvSpPr>
          <p:cNvPr id="52" name=""/>
          <p:cNvSpPr txBox="1"/>
          <p:nvPr/>
        </p:nvSpPr>
        <p:spPr>
          <a:xfrm rot="6206400">
            <a:off x="4376520" y="5300280"/>
            <a:ext cx="390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823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nippet Script SSi"/>
              </a:rPr>
              <a:t>Eau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nippet Script SSi"/>
              <a:ea typeface="Snippet Script SSi"/>
            </a:endParaRPr>
          </a:p>
        </p:txBody>
      </p:sp>
      <p:sp>
        <p:nvSpPr>
          <p:cNvPr id="53" name=""/>
          <p:cNvSpPr txBox="1"/>
          <p:nvPr/>
        </p:nvSpPr>
        <p:spPr>
          <a:xfrm rot="15157200">
            <a:off x="1557360" y="5528520"/>
            <a:ext cx="390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570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nippet Script SSi"/>
              </a:rPr>
              <a:t>Terr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nippet Script SSi"/>
              <a:ea typeface="Snippet Script SSi"/>
            </a:endParaRPr>
          </a:p>
        </p:txBody>
      </p:sp>
      <p:sp>
        <p:nvSpPr>
          <p:cNvPr id="54" name=""/>
          <p:cNvSpPr txBox="1"/>
          <p:nvPr/>
        </p:nvSpPr>
        <p:spPr>
          <a:xfrm rot="1951200">
            <a:off x="3885840" y="3733920"/>
            <a:ext cx="390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756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nippet Script SSi"/>
              </a:rPr>
              <a:t>Air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nippet Script SSi"/>
              <a:ea typeface="Snippet Script SS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ffff"/>
                </a:solidFill>
                <a:latin typeface="Windsor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914400"/>
          <a:ext cx="6324480" cy="86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632448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ASSERLAPORTE" descr=""/>
          <p:cNvPicPr/>
          <p:nvPr/>
        </p:nvPicPr>
        <p:blipFill>
          <a:blip r:embed="rId3"/>
          <a:stretch/>
        </p:blipFill>
        <p:spPr>
          <a:xfrm>
            <a:off x="5638680" y="152280"/>
            <a:ext cx="914400" cy="703440"/>
          </a:xfrm>
          <a:prstGeom prst="rect">
            <a:avLst/>
          </a:prstGeom>
          <a:ln w="0">
            <a:noFill/>
          </a:ln>
        </p:spPr>
      </p:pic>
      <p:pic>
        <p:nvPicPr>
          <p:cNvPr id="60" name="PUCEPENTACLEBLEU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15228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nippet Script SSi"/>
              </a:rPr>
              <a:t>Nephil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En ces temps là, quand les hommes se multipliai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après qu’Adam eût quitté le Paradis, les Nephili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marchaient sur la Terr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	</a:t>
            </a:r>
            <a:r>
              <a:rPr b="1" i="1" lang="fr-FR" sz="700" spc="-1" strike="noStrike">
                <a:solidFill>
                  <a:srgbClr val="ffffff"/>
                </a:solidFill>
                <a:latin typeface="Snippet Script SSi"/>
              </a:rPr>
              <a:t>Bible, genèse 6: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Snippet Script SSi"/>
              </a:rPr>
              <a:t>Feuille Occul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914400"/>
          <a:ext cx="6324480" cy="868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632448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ASSERLAPORTE" descr=""/>
          <p:cNvPicPr/>
          <p:nvPr/>
        </p:nvPicPr>
        <p:blipFill>
          <a:blip r:embed="rId3"/>
          <a:stretch/>
        </p:blipFill>
        <p:spPr>
          <a:xfrm>
            <a:off x="5638680" y="152280"/>
            <a:ext cx="914400" cy="703440"/>
          </a:xfrm>
          <a:prstGeom prst="rect">
            <a:avLst/>
          </a:prstGeom>
          <a:ln w="0">
            <a:noFill/>
          </a:ln>
        </p:spPr>
      </p:pic>
      <p:pic>
        <p:nvPicPr>
          <p:cNvPr id="68" name="PUCEPENTACLEBLEU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ippet Script SSi"/>
              </a:rPr>
              <a:t>Div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914400"/>
          <a:ext cx="6324480" cy="868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632448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ASSERLAPORTE" descr=""/>
          <p:cNvPicPr/>
          <p:nvPr/>
        </p:nvPicPr>
        <p:blipFill>
          <a:blip r:embed="rId3"/>
          <a:stretch/>
        </p:blipFill>
        <p:spPr>
          <a:xfrm>
            <a:off x="5638680" y="152280"/>
            <a:ext cx="914400" cy="703440"/>
          </a:xfrm>
          <a:prstGeom prst="rect">
            <a:avLst/>
          </a:prstGeom>
          <a:ln w="0">
            <a:noFill/>
          </a:ln>
        </p:spPr>
      </p:pic>
      <p:pic>
        <p:nvPicPr>
          <p:cNvPr id="74" name="PUCEPENTACLEBLEU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8:46:44Z</dcterms:created>
  <dc:creator>MARTIN Philippe</dc:creator>
  <dc:description/>
  <dc:language>en-US</dc:language>
  <cp:lastModifiedBy>PMARTIN</cp:lastModifiedBy>
  <cp:lastPrinted>1999-08-26T08:59:58Z</cp:lastPrinted>
  <dcterms:modified xsi:type="dcterms:W3CDTF">1999-08-26T09:21:21Z</dcterms:modified>
  <cp:revision>80</cp:revision>
  <dc:subject/>
  <dc:title>Aucun titre de diapositive</dc:title>
</cp:coreProperties>
</file>