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wmf" ContentType="image/x-wmf"/>
  <Override PartName="/ppt/media/image1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907588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300E-8B3E-416F-A9B8-833665E3B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B318-A68A-494F-9AE2-8ED70529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C5BD-3FB1-43FC-B032-5990BCFC5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C5D8-DAD4-4979-81D4-DF447CE82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DE87-A471-4AA5-B49A-3BC6972A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0192-F671-4763-B549-ED4E59EE9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2BF0-F77D-4975-BC41-B8D160CD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CFC9-C69E-4939-89E3-2751734E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488F-0174-46D8-AE86-CBE82CF7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E6E9-6FB0-4508-9BFF-B3FDA4BD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8FF6-308F-420C-A137-D8568FA8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BEB9-67F9-4791-AF08-64C552D7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1DE3-8019-428A-90F5-53CDCDD12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52280"/>
            <a:ext cx="631980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ffff"/>
                </a:solidFill>
                <a:latin typeface="Windsor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9601200"/>
            <a:ext cx="685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ar Philippe MARTIN (version 1.1) - Les Forgerons de l ’Epée 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76320"/>
            <a:ext cx="213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Stonehenge"/>
              </a:rPr>
              <a:t>Nephili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8600" y="914400"/>
          <a:ext cx="6324480" cy="8610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914400"/>
                    <a:ext cx="6324480" cy="86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28600" y="609480"/>
            <a:ext cx="63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ffffff"/>
                </a:solidFill>
                <a:latin typeface="Stonehenge"/>
              </a:rPr>
              <a:t>L’Egypte d’Akhénaton  -  Révé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entacle%20egyptien" descr=""/>
          <p:cNvPicPr/>
          <p:nvPr/>
        </p:nvPicPr>
        <p:blipFill>
          <a:blip r:embed="rId4"/>
          <a:stretch/>
        </p:blipFill>
        <p:spPr>
          <a:xfrm>
            <a:off x="1125360" y="2971800"/>
            <a:ext cx="3962520" cy="3733920"/>
          </a:xfrm>
          <a:prstGeom prst="rect">
            <a:avLst/>
          </a:prstGeom>
          <a:ln w="0">
            <a:noFill/>
          </a:ln>
        </p:spPr>
      </p:pic>
      <p:pic>
        <p:nvPicPr>
          <p:cNvPr id="49" name="3DSCARAB_DB" descr=""/>
          <p:cNvPicPr/>
          <p:nvPr/>
        </p:nvPicPr>
        <p:blipFill>
          <a:blip r:embed="rId5"/>
          <a:stretch/>
        </p:blipFill>
        <p:spPr>
          <a:xfrm>
            <a:off x="2979720" y="4724280"/>
            <a:ext cx="341280" cy="505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666880" y="403848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33720" y="491508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556272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4191120"/>
            <a:ext cx="304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510552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HATESHEP2" descr=""/>
          <p:cNvPicPr/>
          <p:nvPr/>
        </p:nvPicPr>
        <p:blipFill>
          <a:blip r:embed="rId6"/>
          <a:stretch/>
        </p:blipFill>
        <p:spPr>
          <a:xfrm>
            <a:off x="5715000" y="152280"/>
            <a:ext cx="803160" cy="727200"/>
          </a:xfrm>
          <a:prstGeom prst="rect">
            <a:avLst/>
          </a:prstGeom>
          <a:ln w="0">
            <a:noFill/>
          </a:ln>
        </p:spPr>
      </p:pic>
      <p:pic>
        <p:nvPicPr>
          <p:cNvPr id="56" name="HATESHEP3" descr=""/>
          <p:cNvPicPr/>
          <p:nvPr/>
        </p:nvPicPr>
        <p:blipFill>
          <a:blip r:embed="rId7"/>
          <a:stretch/>
        </p:blipFill>
        <p:spPr>
          <a:xfrm>
            <a:off x="304920" y="152280"/>
            <a:ext cx="798480" cy="722520"/>
          </a:xfrm>
          <a:prstGeom prst="rect">
            <a:avLst/>
          </a:prstGeom>
          <a:ln w="0">
            <a:noFill/>
          </a:ln>
        </p:spPr>
      </p:pic>
      <p:pic>
        <p:nvPicPr>
          <p:cNvPr id="57" name="AKHENATEN" descr=""/>
          <p:cNvPicPr/>
          <p:nvPr/>
        </p:nvPicPr>
        <p:blipFill>
          <a:blip r:embed="rId8"/>
          <a:stretch/>
        </p:blipFill>
        <p:spPr>
          <a:xfrm>
            <a:off x="1676520" y="228600"/>
            <a:ext cx="406440" cy="609480"/>
          </a:xfrm>
          <a:prstGeom prst="rect">
            <a:avLst/>
          </a:prstGeom>
          <a:ln w="0">
            <a:noFill/>
          </a:ln>
        </p:spPr>
      </p:pic>
      <p:pic>
        <p:nvPicPr>
          <p:cNvPr id="58" name="AKHENATEN" descr=""/>
          <p:cNvPicPr/>
          <p:nvPr/>
        </p:nvPicPr>
        <p:blipFill>
          <a:blip r:embed="rId9"/>
          <a:stretch/>
        </p:blipFill>
        <p:spPr>
          <a:xfrm>
            <a:off x="4724280" y="228600"/>
            <a:ext cx="4064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9601200"/>
            <a:ext cx="685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ar Philippe MARTIN (version 1.1) - Les Forgerons de l ’Epée 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52280"/>
            <a:ext cx="631980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ffffff"/>
                </a:solidFill>
                <a:latin typeface="Windsor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28600" y="914400"/>
          <a:ext cx="6324480" cy="8610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914400"/>
                    <a:ext cx="6324480" cy="86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362320" y="76320"/>
            <a:ext cx="2133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Stonehenge"/>
              </a:rPr>
              <a:t>Nephili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609480"/>
            <a:ext cx="63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200" spc="-1" strike="noStrike">
                <a:solidFill>
                  <a:srgbClr val="ffffff"/>
                </a:solidFill>
                <a:latin typeface="Stonehenge"/>
              </a:rPr>
              <a:t>L’Egypte d’Akhénaton  -  Révé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52280"/>
            <a:ext cx="631980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Stonehenge"/>
              </a:rPr>
              <a:t>Feuille Occul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9601200"/>
            <a:ext cx="685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ar Philippe MARTIN (version 1.1) - Les Forgerons de l ’Epée 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28600" y="914400"/>
          <a:ext cx="6324480" cy="8686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914400"/>
                    <a:ext cx="6324480" cy="868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eoh_gold" descr=""/>
          <p:cNvPicPr/>
          <p:nvPr/>
        </p:nvPicPr>
        <p:blipFill>
          <a:blip r:embed="rId4"/>
          <a:stretch/>
        </p:blipFill>
        <p:spPr>
          <a:xfrm>
            <a:off x="380880" y="228600"/>
            <a:ext cx="943200" cy="533520"/>
          </a:xfrm>
          <a:prstGeom prst="rect">
            <a:avLst/>
          </a:prstGeom>
          <a:ln w="0">
            <a:noFill/>
          </a:ln>
        </p:spPr>
      </p:pic>
      <p:pic>
        <p:nvPicPr>
          <p:cNvPr id="72" name="eoh_gold" descr=""/>
          <p:cNvPicPr/>
          <p:nvPr/>
        </p:nvPicPr>
        <p:blipFill>
          <a:blip r:embed="rId5"/>
          <a:stretch/>
        </p:blipFill>
        <p:spPr>
          <a:xfrm>
            <a:off x="5486400" y="228600"/>
            <a:ext cx="942840" cy="533520"/>
          </a:xfrm>
          <a:prstGeom prst="rect">
            <a:avLst/>
          </a:prstGeom>
          <a:ln w="0">
            <a:noFill/>
          </a:ln>
        </p:spPr>
      </p:pic>
      <p:pic>
        <p:nvPicPr>
          <p:cNvPr id="73" name="ankh" descr=""/>
          <p:cNvPicPr/>
          <p:nvPr/>
        </p:nvPicPr>
        <p:blipFill>
          <a:blip r:embed="rId6"/>
          <a:stretch/>
        </p:blipFill>
        <p:spPr>
          <a:xfrm>
            <a:off x="3505320" y="914400"/>
            <a:ext cx="672840" cy="1371600"/>
          </a:xfrm>
          <a:prstGeom prst="rect">
            <a:avLst/>
          </a:prstGeom>
          <a:ln w="0">
            <a:noFill/>
          </a:ln>
        </p:spPr>
      </p:pic>
      <p:pic>
        <p:nvPicPr>
          <p:cNvPr id="74" name="ankh" descr=""/>
          <p:cNvPicPr/>
          <p:nvPr/>
        </p:nvPicPr>
        <p:blipFill>
          <a:blip r:embed="rId7"/>
          <a:stretch/>
        </p:blipFill>
        <p:spPr>
          <a:xfrm>
            <a:off x="5867280" y="914400"/>
            <a:ext cx="673200" cy="137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505320" y="9907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Optimum"/>
              </a:rPr>
              <a:t>KABB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Optimu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Optimum"/>
              </a:rPr>
              <a:t>&amp; ALCHIM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Optimu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Optimum"/>
              </a:rPr>
              <a:t>NON EN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Optimum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Optimum"/>
              </a:rPr>
              <a:t>DECOU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9601200"/>
            <a:ext cx="685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ar Philippe MARTIN (version 1.1) - Les Forgerons de l ’Epée 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52280"/>
            <a:ext cx="631980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Stonehenge"/>
              </a:rPr>
              <a:t>Div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28600" y="914400"/>
          <a:ext cx="6324480" cy="8686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914400"/>
                    <a:ext cx="6324480" cy="868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" name="HATESHEP2" descr=""/>
          <p:cNvPicPr/>
          <p:nvPr/>
        </p:nvPicPr>
        <p:blipFill>
          <a:blip r:embed="rId4"/>
          <a:stretch/>
        </p:blipFill>
        <p:spPr>
          <a:xfrm>
            <a:off x="5715000" y="152280"/>
            <a:ext cx="803160" cy="727200"/>
          </a:xfrm>
          <a:prstGeom prst="rect">
            <a:avLst/>
          </a:prstGeom>
          <a:ln w="0">
            <a:noFill/>
          </a:ln>
        </p:spPr>
      </p:pic>
      <p:pic>
        <p:nvPicPr>
          <p:cNvPr id="82" name="HATESHEP3" descr=""/>
          <p:cNvPicPr/>
          <p:nvPr/>
        </p:nvPicPr>
        <p:blipFill>
          <a:blip r:embed="rId5"/>
          <a:stretch/>
        </p:blipFill>
        <p:spPr>
          <a:xfrm>
            <a:off x="304920" y="152280"/>
            <a:ext cx="798480" cy="722520"/>
          </a:xfrm>
          <a:prstGeom prst="rect">
            <a:avLst/>
          </a:prstGeom>
          <a:ln w="0">
            <a:noFill/>
          </a:ln>
        </p:spPr>
      </p:pic>
      <p:pic>
        <p:nvPicPr>
          <p:cNvPr id="83" name="AKHENATEN" descr=""/>
          <p:cNvPicPr/>
          <p:nvPr/>
        </p:nvPicPr>
        <p:blipFill>
          <a:blip r:embed="rId6"/>
          <a:stretch/>
        </p:blipFill>
        <p:spPr>
          <a:xfrm>
            <a:off x="1676520" y="228600"/>
            <a:ext cx="406440" cy="609480"/>
          </a:xfrm>
          <a:prstGeom prst="rect">
            <a:avLst/>
          </a:prstGeom>
          <a:ln w="0">
            <a:noFill/>
          </a:ln>
        </p:spPr>
      </p:pic>
      <p:pic>
        <p:nvPicPr>
          <p:cNvPr id="84" name="AKHENATEN" descr=""/>
          <p:cNvPicPr/>
          <p:nvPr/>
        </p:nvPicPr>
        <p:blipFill>
          <a:blip r:embed="rId7"/>
          <a:stretch/>
        </p:blipFill>
        <p:spPr>
          <a:xfrm>
            <a:off x="4724280" y="228600"/>
            <a:ext cx="4064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4T08:46:44Z</dcterms:created>
  <dc:creator>MARTIN Philippe</dc:creator>
  <dc:description/>
  <dc:language>en-US</dc:language>
  <cp:lastModifiedBy>PMARTIN</cp:lastModifiedBy>
  <cp:lastPrinted>1999-09-24T14:15:35Z</cp:lastPrinted>
  <dcterms:modified xsi:type="dcterms:W3CDTF">1999-09-24T14:17:00Z</dcterms:modified>
  <cp:revision>74</cp:revision>
  <dc:subject/>
  <dc:title>Aucun titre de diapositive</dc:title>
</cp:coreProperties>
</file>